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3FB-A3EA-4707-A2EB-564B46E1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54A-FC45-458B-B371-5F131C8A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54D-352A-4D72-A5E5-AF83E2B4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FBB-81A6-43E2-B2E5-6D594E08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FFB-BF91-46E0-B4CC-F5F5C89F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F84-95B2-4A07-B237-EF6ACA95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19D-D0CE-4368-8840-C3B07975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8396-60A9-4483-954D-5664A377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3EB-8D66-400F-8C54-EBDB2EC3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3EB-9E08-4FD4-A9A4-3B0A577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84B-4B66-4335-83D0-96F3C08C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D93-606F-4CD2-BE8E-9585D610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F74F-A766-454C-93CA-218BDFA03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593800">
            <a:off x="468360" y="2852640"/>
            <a:ext cx="2050920" cy="72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638800">
            <a:off x="3634920" y="5084640"/>
            <a:ext cx="2241720" cy="773280"/>
          </a:xfrm>
          <a:prstGeom prst="ellipse">
            <a:avLst/>
          </a:prstGeom>
          <a:solidFill>
            <a:srgbClr val="fa25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700000">
            <a:off x="6516720" y="4869000"/>
            <a:ext cx="2224080" cy="792000"/>
          </a:xfrm>
          <a:prstGeom prst="ellipse">
            <a:avLst/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0638800">
            <a:off x="3352680" y="3046320"/>
            <a:ext cx="2368800" cy="660600"/>
          </a:xfrm>
          <a:prstGeom prst="ellipse">
            <a:avLst/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638800">
            <a:off x="6524640" y="2943000"/>
            <a:ext cx="2147760" cy="555480"/>
          </a:xfrm>
          <a:prstGeom prst="ellipse">
            <a:avLst/>
          </a:prstGeom>
          <a:solidFill>
            <a:srgbClr val="45d57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638800">
            <a:off x="906480" y="5227200"/>
            <a:ext cx="2098800" cy="64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937000">
            <a:off x="1187280" y="4365720"/>
            <a:ext cx="1079640" cy="1224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937000">
            <a:off x="4022640" y="4347720"/>
            <a:ext cx="1152720" cy="1224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a2520"/>
              </a:gs>
              <a:gs pos="100000">
                <a:srgbClr val="73110e"/>
              </a:gs>
            </a:gsLst>
            <a:lin ang="60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20937000">
            <a:off x="755640" y="2133360"/>
            <a:ext cx="1150920" cy="1152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50000">
                <a:srgbClr val="4d4d4d"/>
              </a:gs>
              <a:gs pos="100000">
                <a:srgbClr val="000000"/>
              </a:gs>
            </a:gsLst>
            <a:lin ang="60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937000">
            <a:off x="6948000" y="4220640"/>
            <a:ext cx="1043280" cy="1152720"/>
          </a:xfrm>
          <a:prstGeom prst="can">
            <a:avLst>
              <a:gd name="adj" fmla="val 25000"/>
            </a:avLst>
          </a:prstGeom>
          <a:solidFill>
            <a:srgbClr val="4e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0937000">
            <a:off x="3780000" y="2204640"/>
            <a:ext cx="1220760" cy="1216080"/>
          </a:xfrm>
          <a:prstGeom prst="can">
            <a:avLst>
              <a:gd name="adj" fmla="val 25000"/>
            </a:avLst>
          </a:prstGeom>
          <a:solidFill>
            <a:srgbClr val="eff4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937000">
            <a:off x="6834240" y="2049480"/>
            <a:ext cx="1079280" cy="1224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d572"/>
              </a:gs>
              <a:gs pos="100000">
                <a:srgbClr val="1f6234"/>
              </a:gs>
            </a:gsLst>
            <a:lin ang="606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6028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do you think about New Zea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6093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Click the action buttons to fill in a Hat thinking she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49228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4797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93080" y="242100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2565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84720" y="472428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4581360"/>
            <a:ext cx="647640" cy="7207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20720"/>
              <a:gd name="textAreaBottom" fmla="*/ 678960 h 720720"/>
            </a:gdLst>
            <a:ahLst/>
            <a:rect l="textAreaLeft" t="textAreaTop" r="textAreaRight" b="textAreaBottom"/>
            <a:pathLst>
              <a:path w="21600" h="24036">
                <a:moveTo>
                  <a:pt x="0" y="0"/>
                </a:moveTo>
                <a:lnTo>
                  <a:pt x="21600" y="0"/>
                </a:lnTo>
                <a:lnTo>
                  <a:pt x="21600" y="24036"/>
                </a:lnTo>
                <a:lnTo>
                  <a:pt x="0" y="24036"/>
                </a:lnTo>
                <a:close/>
              </a:path>
              <a:path fill="lightenLess" w="21600" h="24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36">
                <a:moveTo>
                  <a:pt x="21600" y="0"/>
                </a:moveTo>
                <a:lnTo>
                  <a:pt x="21600" y="24036"/>
                </a:lnTo>
                <a:lnTo>
                  <a:pt x="20200" y="22636"/>
                </a:lnTo>
                <a:lnTo>
                  <a:pt x="20200" y="1400"/>
                </a:lnTo>
                <a:close/>
              </a:path>
              <a:path fill="darkenLess" w="21600" h="24036">
                <a:moveTo>
                  <a:pt x="21600" y="24036"/>
                </a:moveTo>
                <a:lnTo>
                  <a:pt x="0" y="24036"/>
                </a:lnTo>
                <a:lnTo>
                  <a:pt x="1400" y="22636"/>
                </a:lnTo>
                <a:lnTo>
                  <a:pt x="20200" y="22636"/>
                </a:lnTo>
                <a:close/>
              </a:path>
              <a:path fill="lighten" w="21600" h="24036">
                <a:moveTo>
                  <a:pt x="0" y="24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3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4:52:22Z</dcterms:created>
  <dc:creator>Driver</dc:creator>
  <dc:description/>
  <dc:language>en-US</dc:language>
  <cp:lastModifiedBy>Driver</cp:lastModifiedBy>
  <dcterms:modified xsi:type="dcterms:W3CDTF">2007-05-13T04:55:04Z</dcterms:modified>
  <cp:revision>2</cp:revision>
  <dc:subject/>
  <dc:title>Slide 1</dc:title>
</cp:coreProperties>
</file>